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00D-4C09-46A0-97A0-E44AFC31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C33-214E-412C-A43E-B5D53084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185-44B1-466A-85F1-1B15E5E1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157-8759-4088-AA76-7FB8613C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CD3-655D-418B-BF61-05D76ED2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351-11E4-4CEC-A5C0-60C0C660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150-3EA7-4F6B-A92D-D8517705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F81-B389-4B7F-A748-909CFEB7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273-6260-4D9B-A5E6-6D6B4E9D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97A-2258-40E6-82C1-3F01743A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111-93AD-447E-8824-C808FBA3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533-651C-4948-A522-58A660D9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D24D-DC52-45FA-BE66-ABF40DDB7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Machine abst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28880" y="39258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82000" y="4871880"/>
            <a:ext cx="198360" cy="128772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720"/>
              <a:gd name="textAreaBottom" fmla="*/ 1254240 h 12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2863800"/>
            <a:ext cx="183960" cy="965160"/>
          </a:xfrm>
          <a:custGeom>
            <a:avLst/>
            <a:gdLst>
              <a:gd name="textAreaLeft" fmla="*/ 0 w 183960"/>
              <a:gd name="textAreaRight" fmla="*/ 66240 w 18396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1320" y="46800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47080" y="4068720"/>
            <a:ext cx="207720" cy="514440"/>
          </a:xfrm>
          <a:custGeom>
            <a:avLst/>
            <a:gdLst>
              <a:gd name="textAreaLeft" fmla="*/ 0 w 207720"/>
              <a:gd name="textAreaRight" fmla="*/ 74880 w 20772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85D-C2F7-49DE-98C3-4C33FE08AC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8T23:26:11Z</dcterms:modified>
  <cp:revision>292</cp:revision>
  <dc:subject/>
  <dc:title>Slide 1</dc:title>
</cp:coreProperties>
</file>